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3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73FAE-9D04-497D-82F6-4B5B0611B5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2C005-0518-4047-BE42-9723283B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A1CA6-B17F-4CC5-8888-F9A80BA1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46FFA-766E-45B0-B41B-3869B15CC5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B4E0F-31E3-44E7-AEC2-69C7B88F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14D93-E6BA-44D8-AFEB-8F0BCA23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D1D5F-0A92-4D03-9239-2E98A005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5C396-FEC2-4427-8219-587B08460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4F5D1-BD20-49BF-BC61-BD618450F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804D1-42A3-41D7-A981-AD1EED5E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A17A6-E265-4A9D-8105-BF69209B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3CE81-061F-4162-A956-D7DFD44E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8694-41F2-4783-9FC0-9E5A644E577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05000"/>
            <a:ext cx="51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排便及排尿活动的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观察与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丘桂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四、排便异常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正常的排便形态改变，排便次数减少，排出过于干硬的粪便，使排便不畅、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器质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功能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便秘患者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指导患者定时排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提供隐秘的环境和充裕的时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采取适宜的排便姿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腹部环状按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合理安排膳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制订适合个体需要的运动计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口服缓泻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必要时遵医嘱给予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粪便嵌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粪便持久滞留堆积在直肠内，坚硬不能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早期口服缓泻剂或简易通便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必要时油类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人工取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指导患者建立并维持排便习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（三）腹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排便稀薄或不成形，排便次数增多，可伴有肠痉挛或恶心、呕吐、里急后重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不当或泻剂使用不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肠道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紧张、焦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内分泌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腹泻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卧床休息、注意腹部保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证水、电解质平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持肛周皮肤清洁干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观察、记录排便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止泻药、抗生素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（四）排便失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定义：指肛门括约肌不受意识的控制而不自主地排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原因：神经肌肉系统的病变或损伤、胃肠道疾患、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失禁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保持空气清新、衣被清洁干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加强肛周皮肤护理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协助患者重建排便控制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心理支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、灌肠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将一定量的溶液通过肛管，由肛门经直肠灌入结肠，帮助患者排便、排气或灌入药物，以协助诊断和进行治疗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留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保留灌肠：大量不保留灌肠、小量不保留灌肠、清洁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大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解除便秘、肠胀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手术、检查或分娩的患者进行肠道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清除肠道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降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便秘、肠胀气、高热、胃肠道手术、分娩前准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配液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：了解目的、配合的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：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示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以大量不保留灌肠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准备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配制灌肠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核对、解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插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拔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整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洗手、记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5" name="Picture 5" descr="大"/>
          <p:cNvPicPr/>
          <p:nvPr/>
        </p:nvPicPr>
        <p:blipFill>
          <a:blip r:embed="rId1"/>
          <a:stretch/>
        </p:blipFill>
        <p:spPr>
          <a:xfrm>
            <a:off x="5219640" y="2205000"/>
            <a:ext cx="3446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学习目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知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说出影响正常排便及排尿活动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说出促进正常排尿功能的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便秘、腹泻、粪便嵌塞、肠胀气法、真性尿失禁、假性尿失禁、充溢性尿失禁、导尿法的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孕妇、急腹症、消化道出血患者不宜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降温灌肠时，可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8~32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等渗盐水，灌后等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再排便，便后隔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再量体温记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特殊患者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伤寒者：不超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液面距肛门不超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cm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暑者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 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冰盐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肝性脑病者：禁用肥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4)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注意随时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小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软化粪便，促进排便、排气，减轻腹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腹部或盆腔手术后肠胀气的患者、危重患者、老年体弱、小儿、孕妇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护士、患者、环境准备同大量不保留灌肠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灌肠溶液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用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4000" spc="-1" strike="noStrike">
                <a:solidFill>
                  <a:srgbClr val="fe230c"/>
                </a:solidFill>
                <a:latin typeface="Verdana"/>
                <a:ea typeface="宋体"/>
              </a:rPr>
              <a:t>（情景模拟）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用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核对、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插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拔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手、记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4" descr="12"/>
          <p:cNvPicPr/>
          <p:nvPr/>
        </p:nvPicPr>
        <p:blipFill>
          <a:blip r:embed="rId1"/>
          <a:stretch/>
        </p:blipFill>
        <p:spPr>
          <a:xfrm>
            <a:off x="5076720" y="3040200"/>
            <a:ext cx="374328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灌肠时压力不宜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避免过多气体进入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Picture 4" descr="小量不保留灌肠"/>
          <p:cNvPicPr/>
          <p:nvPr/>
        </p:nvPicPr>
        <p:blipFill>
          <a:blip r:embed="rId1"/>
          <a:srcRect l="0" t="0" r="0" b="7599"/>
          <a:stretch/>
        </p:blipFill>
        <p:spPr>
          <a:xfrm>
            <a:off x="1187280" y="2997360"/>
            <a:ext cx="5761080" cy="33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：镇静、催眠、消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失眠、躁动及肠道感染的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、环境准备：同大量不保留灌肠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溶液：水合氯醛、抗生素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用物：同小量不保留灌肠，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肛管型号在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号以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灌肠前嘱患者排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灌肠管稍细、插入要深、液体量不宜过多、压力不宜太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肛门、直肠、结肠等手术后的患者或排便失禁者不宜做此操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清洁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清洁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直肠、结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摄片和手术前的肠道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方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多次、反复、直至排出的液无粪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口服高渗溶液清洁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硫酸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甘露醇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六）简易通便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：解除便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老人、体弱、久病卧床便秘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操作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开塞露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甘油栓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肥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六、肠胀气患者的观察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肠胀气患者的护理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去除原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协助活动或更换体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腹部热敷、按摩、药物、肛管排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肛管排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排除肠积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腹部胀气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环境、护士、患者准备：同大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按正确规程实施各种灌肠法和导尿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为患者实施排便和排尿的护理过程中，应理解并尊重患者，会运用恰当的沟通技巧，并在操作过程中始终表现出对患者的关爱，按规程实施，保证患者安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不应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203640" y="2708280"/>
            <a:ext cx="32162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二节  排尿活动的观察与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案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李某：女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乳腺切除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未排尿，患者情绪紧张，烦躁不安，诉下腹胀痛难忍，有尿意，无法排尿。体检见耻骨联合上膨隆，可触及一囊性包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问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发生了什么情况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对该患者应采取哪些护理措施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泌尿系统的解剖及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泌尿系统的解剖和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脏：产生尿液、清除机体代谢产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输尿管：把尿液由肾输送至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膀胱：贮存尿液、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道：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排尿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影响响正常排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生理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液体与食物的摄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生理变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疾病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疾病本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手术和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气候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三、排尿的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排尿频率：成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~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夜间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0~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尿量：正常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00~2000m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少尿，无尿、多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三）尿液性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颜色：肉眼血尿、血红蛋白尿、胆红素尿、乳糜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透明度：澄清、透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气味：无明显氨臭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p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5~7.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比重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015~1.025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促进正常排尿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证入液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证运动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正常的排尿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提供适宜的排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有利的排尿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暗示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、排尿异常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尿潴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尿液大量存留在膀胱内而无法自主排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机械性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动力性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液体摄入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潴留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提供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采用适当的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暗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热敷、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上述处理无效者给予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治疗原发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（二）尿失禁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失禁的分类及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真性尿失禁：又称完全性尿失禁，指膀胱内稍有一些尿液便会不自主流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压力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假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一节  排便活动的观察与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案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刘某，男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近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来持续腹部不适，每天排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~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粪便中伴有黏液，收入胃肠外科，经粪便潜血试验，肠镜检确诊为肠癌，拟行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如何分析并评估患者的排便活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该患者应采取哪些护理措施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失禁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皮肤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外部引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膀胱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必要时遵医嘱给予留置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治疗原发病及引起尿失禁的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拓展学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08000" y="1341360"/>
          <a:ext cx="8929800" cy="4876920"/>
        </p:xfrm>
        <a:graphic>
          <a:graphicData uri="http://schemas.openxmlformats.org/drawingml/2006/table">
            <a:tbl>
              <a:tblPr/>
              <a:tblGrid>
                <a:gridCol w="522360"/>
                <a:gridCol w="3641760"/>
                <a:gridCol w="4765680"/>
              </a:tblGrid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护理目标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护理措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10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尿失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的心理压力减轻，有早日恢复正常排尿活动有信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皮肤保持完整，无泌尿道感染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及家属能叙述尿失禁的原因和排尿功能训练的方法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学会正确进行膀胱功能训练和盆底肌肉锻炼的方法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心理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皮肤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设法接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留置导尿管引流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室内环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观察排尿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健康教育：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多饮水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训练膀胱功能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进行盆底肌锻炼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35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尿潴留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情绪稳定，配合治疗和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的膀胱内无尿潴留，保持正常的排尿形态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及家属能叙述发生尿潴留的原因和预防措施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心理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提供隐蔽的排尿环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调整体位和姿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热敷、按摩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利用条件反射诱导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必要时根据医嘱肌肉注射卡巴胆碱或针灸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经上述处理无效时，可采用无菌导尿术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健康教育：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指导养成定时排尿的习惯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教育患者利用条件反射诱导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对某些患者实现有计划地训练床上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六、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定义：指在严格无菌操作下，将导尿管经尿道插入膀胱以引流尿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一次性导尿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引流尿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输入化疗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留取尿标本，测量膀胱容量、压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尿潴留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留取标本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测量膀胱容量、压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膀胱肿瘤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：私密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（实物介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：了解、配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3276720" y="2852640"/>
            <a:ext cx="5184720" cy="36147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1467000" y="1936800"/>
            <a:ext cx="437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女性尿道短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cm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富于扩张性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尿道外口位于阴蒂下方，呈矢状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DSC08528"/>
          <p:cNvPicPr/>
          <p:nvPr/>
        </p:nvPicPr>
        <p:blipFill>
          <a:blip r:embed="rId1"/>
          <a:stretch/>
        </p:blipFill>
        <p:spPr>
          <a:xfrm>
            <a:off x="0" y="836640"/>
            <a:ext cx="4356000" cy="4876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DSC08529"/>
          <p:cNvPicPr/>
          <p:nvPr/>
        </p:nvPicPr>
        <p:blipFill>
          <a:blip r:embed="rId2"/>
          <a:stretch/>
        </p:blipFill>
        <p:spPr>
          <a:xfrm>
            <a:off x="4500720" y="1557360"/>
            <a:ext cx="4643280" cy="39988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6"/>
          <p:cNvSpPr/>
          <p:nvPr/>
        </p:nvSpPr>
        <p:spPr>
          <a:xfrm>
            <a:off x="1737720" y="58053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导尿物品摆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543720" y="5715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导尿前消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0" y="1268280"/>
            <a:ext cx="2833560" cy="3961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3132000" y="1197000"/>
            <a:ext cx="3248280" cy="3600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"/>
          <p:cNvPicPr/>
          <p:nvPr/>
        </p:nvPicPr>
        <p:blipFill>
          <a:blip r:embed="rId3"/>
          <a:stretch/>
        </p:blipFill>
        <p:spPr>
          <a:xfrm>
            <a:off x="6300720" y="1989000"/>
            <a:ext cx="2843280" cy="29527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7"/>
          <p:cNvSpPr/>
          <p:nvPr/>
        </p:nvSpPr>
        <p:spPr>
          <a:xfrm>
            <a:off x="967680" y="56754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女性尿道口位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4067280" y="5478480"/>
            <a:ext cx="46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插入导尿管（用手或血管钳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男性尿道长，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8~20cm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两个弯曲：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耻骨前弯和耻骨下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三个狭窄：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尿道内口、膜部和尿道外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2757240" cy="4105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2"/>
          <a:stretch/>
        </p:blipFill>
        <p:spPr>
          <a:xfrm>
            <a:off x="3132000" y="189000"/>
            <a:ext cx="3168720" cy="3036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3"/>
          <a:stretch/>
        </p:blipFill>
        <p:spPr>
          <a:xfrm>
            <a:off x="6264360" y="3213000"/>
            <a:ext cx="2879640" cy="26971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3697560" y="3246480"/>
            <a:ext cx="17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男患者导尿时消毒与插入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1039680" y="56610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改为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60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查对、无菌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护患者隐私、保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选择合适的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误插入阴道，应更换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次放尿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原因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大肠的解剖与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大肠的解剖和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盲肠：有回盲瓣，防止大肠内容物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肠：升、横、降、乙状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直肠：两个弯曲：骶曲与会阴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肛管：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~4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肛门内、外括约肌包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留置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持续地引流尿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进行膀胱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昏迷、瘫痪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泌尿系手术后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盆腔手术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抢救、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尿失禁者，进行膀胱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环境、护士、患者的准备同一次性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（实物介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5" name="Picture 4" descr="12761"/>
          <p:cNvPicPr/>
          <p:nvPr/>
        </p:nvPicPr>
        <p:blipFill>
          <a:blip r:embed="rId1"/>
          <a:stretch/>
        </p:blipFill>
        <p:spPr>
          <a:xfrm>
            <a:off x="324000" y="3429000"/>
            <a:ext cx="3024000" cy="2381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1161593731"/>
          <p:cNvPicPr/>
          <p:nvPr/>
        </p:nvPicPr>
        <p:blipFill>
          <a:blip r:embed="rId2"/>
          <a:stretch/>
        </p:blipFill>
        <p:spPr>
          <a:xfrm>
            <a:off x="5435640" y="2852640"/>
            <a:ext cx="303048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8" name="Picture 4" descr="护理6"/>
          <p:cNvPicPr/>
          <p:nvPr/>
        </p:nvPicPr>
        <p:blipFill>
          <a:blip r:embed="rId1"/>
          <a:srcRect l="0" t="0" r="0" b="26502"/>
          <a:stretch/>
        </p:blipFill>
        <p:spPr>
          <a:xfrm>
            <a:off x="468360" y="2421000"/>
            <a:ext cx="3384360" cy="3168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护理7"/>
          <p:cNvPicPr/>
          <p:nvPr/>
        </p:nvPicPr>
        <p:blipFill>
          <a:blip r:embed="rId2"/>
          <a:srcRect l="0" t="0" r="0" b="8841"/>
          <a:stretch/>
        </p:blipFill>
        <p:spPr>
          <a:xfrm>
            <a:off x="5219640" y="2492280"/>
            <a:ext cx="3600360" cy="31147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6"/>
          <p:cNvSpPr/>
          <p:nvPr/>
        </p:nvSpPr>
        <p:spPr>
          <a:xfrm>
            <a:off x="1829160" y="58197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带气囊导尿管留置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6523560" y="55119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集尿袋的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避免损伤尿道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集尿袋应低于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导尿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持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预防泌尿系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观察尿液性质，听患者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训练膀胱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七、膀胱冲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清洁膀胱、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向膀胱内注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留置导尿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膀胱炎症、膀胱肿瘤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（实物介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（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无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冲洗速度不宜过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小结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0" lang="zh-CN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排便是人体排泄废物的主要途径之一。粪便的次数、量、性状、颜色、气味以及所含的混合物，直接反映消化系统的功能状况。 通过本节学习，应学会用护理程序的方法对排便活动进行评估，正确观察粪便，以鉴别其状况正常与否，掌握各种灌肠方法和肛管排气方法，以满足患者排泄的基本生理需要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.</a:t>
            </a:r>
            <a:r>
              <a:rPr b="0" lang="zh-CN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泌尿系统由肾、输尿管、膀胱及尿道组成，通过尿液的生成和排泄，将人体代谢的终产物如尿素、肌酐、尿酸等含氮物质及过剩盐类、有毒物质、药物排出体外。同时调节水、电解质及酸碱平衡，从而维持人体内环境的相对稳定。当泌尿系统功能发生障碍或有病变时，可引起排尿活动异常和（或）尿液的异常。尿液的次数、量、颜色、透明度、气味，可直接反映泌尿系统的功能状况。通过本节学习，应学会用护理程序的方法对排尿活动进行评估，正确观察尿液，以鉴别其性状正常与否，排尿活动能否正常进行，分析影响排尿活动的因素，并针对性地拟定护理计划，给予患者排尿的指导和帮助，以满足其排尿的基本生理需要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作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郑先生，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69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岁，急性心肌梗死，经抢救病情稳定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周后，患者平时喜食荤菜，常有便秘，护士为其讲解预防便秘的常识，患者复述内容何项需给予纠正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每日定时排便一次       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适当翻身或下床活动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多食蔬菜、水果和粗粮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摄取适量油脂食物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每晚睡前用开塞露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陈先生，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45 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岁，出差当晚腹泻多次，粪便呈果酱样，入院检查初诊为阿米巴痢疾，医嘱用灭滴灵灌肠治疗。护理措施正确的是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肠前臀部抬高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0cm                       B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液面与肛门距离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40~60cm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肠时患者取右侧卧位              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入药液量应少于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入后保留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08000" y="1371240"/>
            <a:ext cx="89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护理尿失禁患者，下列措施哪项不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酌情留置导尿        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酌情膀胱潮式引流        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加强皮肤护理   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注意锻炼膀胱的自动反射性排尿功能   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减少饮水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为留置导尿患者进行膀胱反射功能锻炼的护理时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温水冲洗外阴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日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每周更换导尿管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间断夹闭引流管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定时给患者翻身        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鼓励患者多饮水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大肠的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袋状往返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节或多袋推进运动：进食后多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蠕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集团蠕动：多见于早餐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可训练排便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排便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影响正常排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生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龄：婴幼儿、老年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与饮水：水分、纤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活动：长期卧床，排便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疾病相关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疾病本身：肠道、神经系统方面的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：止痛药、缓泻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手术和检查：禁食、伤口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心理因素：紧张、焦虑、抑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社会文化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环境：私密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排便的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排便的频率与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成人每日排便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平均量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0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婴幼儿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~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粪便的性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成分：食物残渣、细菌、肠道分泌物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形状和软硬度：柔软成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颜色：黄褐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气味：臭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4-09-11T06:30:10Z</dcterms:modified>
  <cp:revision>6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